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DEF2-339D-4E19-8A61-390764093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8421-C553-443E-ACEF-11B98393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824-4D29-4D93-A289-C1FC328B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B05-F2DD-45B3-87CC-765E80E9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7BF-3BAF-44C6-A901-ECB7166F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9772-9EF4-417C-9642-79557783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476-E421-4F71-A733-15791029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A40-7003-4B21-8A96-BBF2703C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638-17BB-4557-9D58-7F3BABA3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7F8-46C4-414C-87BC-30876AFA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E87-93B5-4799-B008-361D02B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74D-3093-4D59-9075-5DA4D3F6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EA03-D4B3-4F3A-9699-DA2C11592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w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re will be pictures of sewer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In this 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Gill Sans MT Condensed"/>
              </a:rPr>
              <a:t>These are pictures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Gill Sans MT Condensed"/>
              </a:rPr>
              <a:t>of sewerag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4437000"/>
            <a:ext cx="2952720" cy="2054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580000" y="4437000"/>
            <a:ext cx="3168720" cy="2113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867280" y="3429000"/>
            <a:ext cx="503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842920" y="3573360"/>
            <a:ext cx="649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627280" y="1557360"/>
            <a:ext cx="7207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796000" y="177336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2421000"/>
            <a:ext cx="2592360" cy="93672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443640" y="260280"/>
            <a:ext cx="22860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75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Information on sew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Sewerage is the process of when you flush your toilet or wash things down the drain/sink, it ends up in a sewer d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There is one sewerage system which is the stormwater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Franklin Gothic Medium"/>
              </a:rPr>
              <a:t>Cre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Made By: Angelina Nguyen and Teresa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Comic Sans MS"/>
              </a:rPr>
              <a:t>Websites:www.yvw.com.au/waterschool/ sen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04:36:43Z</dcterms:created>
  <dc:creator>teresa.le</dc:creator>
  <dc:description/>
  <dc:language>en-US</dc:language>
  <cp:lastModifiedBy>teresa.le</cp:lastModifiedBy>
  <dcterms:modified xsi:type="dcterms:W3CDTF">2009-08-04T05:00:55Z</dcterms:modified>
  <cp:revision>3</cp:revision>
  <dc:subject/>
  <dc:title>Sewerage</dc:title>
</cp:coreProperties>
</file>